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907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1152-A5E8-41E8-9F96-CBF3B149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13AC-A624-49A5-A50F-F311EE05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E296-D6BC-41A6-91F9-76819452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8322-3D7F-4314-9796-ABD55EE86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E38C-C312-4730-88FD-8FAD758F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4151-97A1-4A33-994C-C86231BE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1BA0-7A82-4DAB-A0AC-F4FF8C72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401F-615E-4B7B-AB17-164FA039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A9EE-8E3A-40DA-B426-B74F29EC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9684-23EA-4621-959E-43F4429B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9C90-ADB9-45C2-B316-43A52177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621A-CDE0-44D1-A760-EB0F8EDC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K Thiever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DK Thiev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DK Thieve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702D-E720-488D-9EEA-296D99851C15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../&#201;RASE%20QUE%20SE%20ERA.ppsx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9720" y="1166400"/>
            <a:ext cx="5429160" cy="11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Baila, baila, baila, con…</a:t>
            </a:r>
            <a:endParaRPr b="0" lang="en-US" sz="40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42" name="Picture 11" descr="zapatilla+rojas+fragmento+02"/>
          <p:cNvPicPr/>
          <p:nvPr/>
        </p:nvPicPr>
        <p:blipFill>
          <a:blip r:embed="rId1"/>
          <a:stretch/>
        </p:blipFill>
        <p:spPr>
          <a:xfrm>
            <a:off x="2143080" y="2266920"/>
            <a:ext cx="2786040" cy="50706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500040" y="7167600"/>
            <a:ext cx="617220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gl-ES" sz="4000" spc="-1" strike="noStrike">
                <a:solidFill>
                  <a:srgbClr val="000000"/>
                </a:solidFill>
                <a:latin typeface="DK Thievery"/>
              </a:rPr>
              <a:t>As zapatillas vermellas</a:t>
            </a: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 de </a:t>
            </a:r>
            <a:r>
              <a:rPr b="1" lang="gl-ES" sz="4000" spc="-1" strike="noStrike">
                <a:solidFill>
                  <a:srgbClr val="ff0000"/>
                </a:solidFill>
                <a:latin typeface="DK Thievery"/>
              </a:rPr>
              <a:t>Hans Christian Anders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4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E628-4863-4F52-B04D-EDE8F754F649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0200" y="1452240"/>
            <a:ext cx="565776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DK Thievery"/>
              </a:rPr>
              <a:t>Atención: lúa chea!</a:t>
            </a:r>
            <a:endParaRPr b="0" lang="en-US" sz="48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46" name="Picture 4" descr="hombres-lobos-europeos"/>
          <p:cNvPicPr/>
          <p:nvPr/>
        </p:nvPicPr>
        <p:blipFill>
          <a:blip r:embed="rId1"/>
          <a:srcRect l="0" t="0" r="0" b="12217"/>
          <a:stretch/>
        </p:blipFill>
        <p:spPr>
          <a:xfrm>
            <a:off x="1714680" y="2452680"/>
            <a:ext cx="3703320" cy="3338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"/>
          <p:cNvSpPr/>
          <p:nvPr/>
        </p:nvSpPr>
        <p:spPr>
          <a:xfrm>
            <a:off x="1428840" y="6024600"/>
            <a:ext cx="421488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DK Thievery"/>
              </a:rPr>
              <a:t>Hai lobishomes a esgalla 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DK Thievery"/>
              </a:rPr>
              <a:t>relato popular</a:t>
            </a:r>
            <a:r>
              <a:rPr b="1" lang="es-ES_tradnl" sz="4000" spc="-1" strike="noStrike">
                <a:solidFill>
                  <a:srgbClr val="000000"/>
                </a:solidFill>
                <a:latin typeface="DK Thievery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4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B1F7-787D-4C86-B2CD-F989F5433B9F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8480" y="1116000"/>
            <a:ext cx="3786120" cy="293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3200" spc="-1" strike="noStrike">
                <a:solidFill>
                  <a:srgbClr val="000000"/>
                </a:solidFill>
                <a:latin typeface="DK Thievery"/>
              </a:rPr>
              <a:t>Gatipedro: “visitante nocturno que fai que os nenos mollen a cama”</a:t>
            </a:r>
            <a:br>
              <a:rPr sz="48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50" name="3 Imagen" descr="GATIPEDRO.jpg"/>
          <p:cNvPicPr/>
          <p:nvPr/>
        </p:nvPicPr>
        <p:blipFill>
          <a:blip r:embed="rId1"/>
          <a:stretch/>
        </p:blipFill>
        <p:spPr>
          <a:xfrm>
            <a:off x="1857240" y="3187800"/>
            <a:ext cx="3143520" cy="43275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285840" y="6116760"/>
            <a:ext cx="632592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gl-ES" sz="4000" spc="-1" strike="noStrike">
                <a:solidFill>
                  <a:srgbClr val="000000"/>
                </a:solidFill>
                <a:latin typeface="DK Thievery"/>
              </a:rPr>
              <a:t>Os outros feirantes</a:t>
            </a: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 </a:t>
            </a:r>
            <a:br>
              <a:rPr sz="4000"/>
            </a:b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de </a:t>
            </a:r>
            <a:r>
              <a:rPr b="1" lang="gl-ES" sz="4000" spc="-1" strike="noStrike">
                <a:solidFill>
                  <a:srgbClr val="ff0000"/>
                </a:solidFill>
                <a:latin typeface="DK Thievery"/>
              </a:rPr>
              <a:t>Álvaro Cunqueiro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5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4F9B-EDFC-41B8-8A98-D10EE17EFD3B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1023480"/>
            <a:ext cx="5943600" cy="20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DK Thievery"/>
              </a:rPr>
              <a:t>-Onde aniña o medo?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54" name="Picture 4" descr="miedo_638426119f30dc728b667f848dec83f1"/>
          <p:cNvPicPr/>
          <p:nvPr/>
        </p:nvPicPr>
        <p:blipFill>
          <a:blip r:embed="rId1"/>
          <a:stretch/>
        </p:blipFill>
        <p:spPr>
          <a:xfrm>
            <a:off x="1500120" y="2523960"/>
            <a:ext cx="4071960" cy="40402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428760" y="6524640"/>
            <a:ext cx="617220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DK Thievery"/>
              </a:rPr>
              <a:t>Nos contos de </a:t>
            </a:r>
            <a:r>
              <a:rPr b="1" lang="es-ES_tradnl" sz="4400" spc="-1" strike="noStrike">
                <a:solidFill>
                  <a:srgbClr val="ff0000"/>
                </a:solidFill>
                <a:latin typeface="DK Thievery"/>
              </a:rPr>
              <a:t>Poe, </a:t>
            </a:r>
            <a:r>
              <a:rPr b="1" lang="es-ES_tradnl" sz="4000" spc="-1" strike="noStrike">
                <a:solidFill>
                  <a:srgbClr val="ff0000"/>
                </a:solidFill>
                <a:latin typeface="DK Thievery"/>
              </a:rPr>
              <a:t>Maupassant</a:t>
            </a:r>
            <a:r>
              <a:rPr b="1" lang="es-ES_tradnl" sz="4400" spc="-1" strike="noStrike">
                <a:solidFill>
                  <a:srgbClr val="ff0000"/>
                </a:solidFill>
                <a:latin typeface="DK Thievery"/>
              </a:rPr>
              <a:t>, </a:t>
            </a:r>
            <a:r>
              <a:rPr b="1" lang="es-ES_tradnl" sz="3600" spc="-1" strike="noStrike">
                <a:solidFill>
                  <a:srgbClr val="ff0000"/>
                </a:solidFill>
                <a:latin typeface="DK Thievery"/>
              </a:rPr>
              <a:t>Lovecraf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DK Thievery"/>
              </a:rPr>
              <a:t>Mary Shelley</a:t>
            </a:r>
            <a:r>
              <a:rPr b="1" lang="es-ES_tradnl" sz="3600" spc="-1" strike="noStrike">
                <a:solidFill>
                  <a:srgbClr val="ff0000"/>
                </a:solidFill>
                <a:latin typeface="DK Thievery"/>
              </a:rPr>
              <a:t>, </a:t>
            </a:r>
            <a:r>
              <a:rPr b="1" lang="es-ES_tradnl" sz="2400" spc="-1" strike="noStrike">
                <a:solidFill>
                  <a:srgbClr val="ff0000"/>
                </a:solidFill>
                <a:latin typeface="DK Thievery"/>
              </a:rPr>
              <a:t>Stevens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4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B2A0-8DB0-4EA7-A722-B4F3623F6EF9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56800" y="1333080"/>
            <a:ext cx="5072040" cy="204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Por que</a:t>
            </a:r>
            <a:br>
              <a:rPr sz="4000"/>
            </a:b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os superheroes</a:t>
            </a:r>
            <a:br>
              <a:rPr sz="4000"/>
            </a:b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levan traxes axustados?</a:t>
            </a:r>
            <a:endParaRPr b="0" lang="en-US" sz="40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58" name="Picture 4" descr="daredevil-reboot-movie"/>
          <p:cNvPicPr/>
          <p:nvPr/>
        </p:nvPicPr>
        <p:blipFill>
          <a:blip r:embed="rId1"/>
          <a:stretch/>
        </p:blipFill>
        <p:spPr>
          <a:xfrm>
            <a:off x="1378080" y="3860640"/>
            <a:ext cx="4265640" cy="28782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428760" y="6595920"/>
            <a:ext cx="596556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gl-ES" sz="4800" spc="-1" strike="noStrike">
                <a:solidFill>
                  <a:srgbClr val="000000"/>
                </a:solidFill>
                <a:latin typeface="DK Thievery"/>
              </a:rPr>
              <a:t>Daredev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800" spc="-1" strike="noStrike">
                <a:solidFill>
                  <a:srgbClr val="000000"/>
                </a:solidFill>
                <a:latin typeface="DK Thievery"/>
              </a:rPr>
              <a:t>de </a:t>
            </a:r>
            <a:r>
              <a:rPr b="1" lang="gl-ES" sz="4800" spc="-1" strike="noStrike">
                <a:solidFill>
                  <a:srgbClr val="ff0000"/>
                </a:solidFill>
                <a:latin typeface="DK Thievery"/>
              </a:rPr>
              <a:t>MAR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5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5DA7-3A50-462C-92EA-407C0C412C77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1380960"/>
            <a:ext cx="6172200" cy="260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Fantasiosos, sí, pero... científicos tamén.</a:t>
            </a:r>
            <a:br>
              <a:rPr sz="4000"/>
            </a:br>
            <a:r>
              <a:rPr b="1" i="1" lang="gl-ES" sz="4000" spc="-1" strike="noStrike">
                <a:solidFill>
                  <a:srgbClr val="000000"/>
                </a:solidFill>
                <a:latin typeface="DK Thievery"/>
              </a:rPr>
              <a:t>Da terra á lúa </a:t>
            </a: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de</a:t>
            </a:r>
            <a:r>
              <a:rPr b="1" i="1" lang="gl-ES" sz="4000" spc="-1" strike="noStrike">
                <a:solidFill>
                  <a:srgbClr val="000000"/>
                </a:solidFill>
                <a:latin typeface="DK Thievery"/>
              </a:rPr>
              <a:t> </a:t>
            </a:r>
            <a:br>
              <a:rPr sz="4000"/>
            </a:br>
            <a:r>
              <a:rPr b="1" i="1" lang="es-ES_tradnl" sz="4000" spc="-1" strike="noStrike">
                <a:solidFill>
                  <a:srgbClr val="000000"/>
                </a:solidFill>
                <a:latin typeface="DK Thievery"/>
              </a:rPr>
              <a:t>Jules Verne</a:t>
            </a:r>
            <a:endParaRPr b="0" lang="en-US" sz="40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62" name="Picture 4" descr="cuento-viaje_luna-quellegamos"/>
          <p:cNvPicPr/>
          <p:nvPr/>
        </p:nvPicPr>
        <p:blipFill>
          <a:blip r:embed="rId1"/>
          <a:srcRect l="0" t="20900" r="0" b="0"/>
          <a:stretch/>
        </p:blipFill>
        <p:spPr>
          <a:xfrm>
            <a:off x="1428840" y="4146480"/>
            <a:ext cx="4048200" cy="30211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285840" y="7453440"/>
            <a:ext cx="6172200" cy="13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gl-ES" sz="4000" spc="-1" strike="noStrike">
                <a:solidFill>
                  <a:srgbClr val="000000"/>
                </a:solidFill>
                <a:latin typeface="DK Thievery"/>
              </a:rPr>
              <a:t>Da terra á lúa </a:t>
            </a: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de</a:t>
            </a:r>
            <a:r>
              <a:rPr b="1" i="1" lang="gl-ES" sz="4000" spc="-1" strike="noStrike">
                <a:solidFill>
                  <a:srgbClr val="000000"/>
                </a:solidFill>
                <a:latin typeface="DK Thievery"/>
              </a:rPr>
              <a:t> </a:t>
            </a:r>
            <a:br>
              <a:rPr sz="4000"/>
            </a:br>
            <a:r>
              <a:rPr b="1" i="1" lang="es-ES_tradnl" sz="4000" spc="-1" strike="noStrike">
                <a:solidFill>
                  <a:srgbClr val="ff0000"/>
                </a:solidFill>
                <a:latin typeface="DK Thievery"/>
              </a:rPr>
              <a:t>Jules Ver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4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E193-216E-41BC-B529-0F7BAF8CF95F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4360" y="1666440"/>
            <a:ext cx="622944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DK Thievery"/>
              </a:rPr>
              <a:t>Salvar a Terra Media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66" name="Picture 4" descr="baston_luminoso"/>
          <p:cNvPicPr/>
          <p:nvPr/>
        </p:nvPicPr>
        <p:blipFill>
          <a:blip r:embed="rId1"/>
          <a:srcRect l="0" t="7087" r="0" b="9055"/>
          <a:stretch/>
        </p:blipFill>
        <p:spPr>
          <a:xfrm>
            <a:off x="2000160" y="2738520"/>
            <a:ext cx="2952720" cy="3995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285840" y="6810480"/>
            <a:ext cx="611028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DK Thievery"/>
              </a:rPr>
              <a:t>O señor dos aneis </a:t>
            </a:r>
            <a:br>
              <a:rPr sz="4400"/>
            </a:br>
            <a:r>
              <a:rPr b="1" lang="es-ES_tradnl" sz="4400" spc="-1" strike="noStrike">
                <a:solidFill>
                  <a:srgbClr val="ff0000"/>
                </a:solidFill>
                <a:latin typeface="DK Thievery"/>
              </a:rPr>
              <a:t>JRR Tolk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4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47CB-B544-438E-97D3-11E1CF7E5B72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0080" y="1881000"/>
            <a:ext cx="4881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DK Thievery"/>
              </a:rPr>
              <a:t>Cando os clásicos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DK Thievery"/>
              </a:rPr>
              <a:t>fantasean</a:t>
            </a:r>
            <a:endParaRPr b="0" lang="en-US" sz="40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155520" y="49320"/>
            <a:ext cx="298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155520" y="49320"/>
            <a:ext cx="298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Saramago, el genio que se cargó a Los Pirineos"/>
          <p:cNvPicPr/>
          <p:nvPr/>
        </p:nvPicPr>
        <p:blipFill>
          <a:blip r:embed="rId1"/>
          <a:stretch/>
        </p:blipFill>
        <p:spPr>
          <a:xfrm>
            <a:off x="1714680" y="3452760"/>
            <a:ext cx="3473280" cy="28735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428760" y="6595920"/>
            <a:ext cx="617220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DK Thievery"/>
              </a:rPr>
              <a:t>La balsa de pied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DK Thievery"/>
              </a:rPr>
              <a:t>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DK Thievery"/>
              </a:rPr>
              <a:t>José Sarama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7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A432-37E0-4A98-AF79-BF06E0746F06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8 Rectángulo">
            <a:hlinkClick r:id="rId2"/>
          </p:cNvPr>
          <p:cNvSpPr/>
          <p:nvPr/>
        </p:nvSpPr>
        <p:spPr>
          <a:xfrm>
            <a:off x="3143160" y="8453520"/>
            <a:ext cx="714600" cy="642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9:53:58Z</dcterms:created>
  <dc:creator>WinuE</dc:creator>
  <dc:description/>
  <dc:language>en-US</dc:language>
  <cp:lastModifiedBy>Usuario</cp:lastModifiedBy>
  <dcterms:modified xsi:type="dcterms:W3CDTF">2013-04-15T09:43:42Z</dcterms:modified>
  <cp:revision>27</cp:revision>
  <dc:subject/>
  <dc:title>Alicia no  País das Marabillas</dc:title>
</cp:coreProperties>
</file>